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97609-62AC-45C9-A78E-E2730B86B99E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B20BC-AFAB-4AE9-A631-08D3752D31D3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5816-88F7-411E-BAF9-AC74E8673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9543-CCF4-4D99-87BF-D8EFD1739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B1F6-6377-42E7-9B2B-CF7CA4126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6F45-827C-4EDA-B6C5-F7232D1E26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0C5D-1CBF-4950-9362-A2087B7FED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9362-A236-43E3-A74D-5748955CE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34A1-983D-48C1-A975-29C694F5A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3F44-61D2-446C-9E1F-59EBC9BD3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A8B6-92DE-4352-A8B4-378C2DDCC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50DF-E26B-45CE-9322-90AF7B62F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6BC1-9E09-4A5D-9B44-5BAEB4C8F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867E-95C3-42BF-8A00-1F15B0D42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F34C3-5CF9-437C-B99D-D5BEB354F1FD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60360" y="1584360"/>
            <a:ext cx="8567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филактика злоупотребления алкоголем — важный резерв снижения преждевременной смертн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27280" y="4680000"/>
            <a:ext cx="6085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йцов С.А.,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.м.н., профессор, член-корреспондент РАН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вный внештатный специалист по медицинской профилактике Минздрава России,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60360" y="1584360"/>
            <a:ext cx="8567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можно сделать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357120" y="142920"/>
            <a:ext cx="8228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Основные направления глобальной стратегии сокращения вредного употребления алкогол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7120" y="1253160"/>
            <a:ext cx="864252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арианты политики и мероприятия, осуществимые в рамках национальных действий, можно разделить на 10 рекомендуемых целевых направлений: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. Информированность и приверженность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33"/>
                </a:solidFill>
                <a:latin typeface="Calibri"/>
              </a:rPr>
              <a:t>2. Ответные меры служб здравоохранения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. Действия на коммунальном уровне.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4. Политика и контрмеры в отношении управления транспортными средствами в состоянии алкогольного опьянения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. Доступность алкогольных напитков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6. Маркетинг алкогольных напитков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7. Ценовая политика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8. Сокращение негативных последствий употребления спиртных напитков и алкогольной интоксикации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9. Сокращение воздействия на здоровье населения алкогольных напитков, произведенных незаконно или неорганизованным сектором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0. Мониторинг и эпиднадзор.</a:t>
            </a:r>
            <a:r>
              <a:rPr b="0" lang="ru-RU" sz="17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85840" y="6215040"/>
            <a:ext cx="678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ая стратегия сокращения вредного употребления алкоголя. ВОЗ, 2010 г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142920" y="500040"/>
            <a:ext cx="892800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indent="12060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еспечение профилактики, лечения и медицинской помощи при нарушениях, вызванных и связанных с употреблением алкоголя, и сопутствующих патологических состояниях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indent="12060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33"/>
                </a:solidFill>
                <a:latin typeface="Calibri"/>
              </a:rPr>
              <a:t>Оказание поддержки инициативам по проведению скрининга и профилактического консультирования (СПК) в отношении опасного и вредного употребления спиртных напитков на уровне первичной медико-санитарной помощи и в других условиях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12060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асширение возможностей в области профилактики, выявления и осуществления мер вмешательства в отношении отдельных лиц и семей с синдромом алкогольной фетопатии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indent="12060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азработка и эффективная координация комплексных и/или взаимосвязанных стратегий и служб профилактики, лечения и оказания помощи при нарушениях, связанных с употреблением алкоголя, и сопутствующих патологических состояниях, включая связанные с употреблением наркотиков нарушения, депрессию, самоубийства, ВИЧ/СПИД и туберкулез; обеспечение всеобщего доступа к службам здравоохранения, в том числе путем обеспечения более широкого наличия, доступности и ценовой приемлемости лечебных услуг для групп с низким социально-экономическим статусом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indent="12060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оздание и поддержание системы регистрации и мониторинга заболеваемости и смертности, которые могут быть обусловлены употреблением алкоголя, с механизмами регулярной отчетности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indent="12060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еспечение соответствующих услуг в области здравоохранения и социальных услуг с учетом культурных норм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-71280"/>
            <a:ext cx="82281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Ответные меры служб здравоохранен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85840" y="6215040"/>
            <a:ext cx="678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ая стратегия сокращения вредного употребления алкоголя. ВОЗ, 2010 г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503280" y="765000"/>
            <a:ext cx="4908600" cy="4421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108000" y="115920"/>
            <a:ext cx="8227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algn="ctr">
              <a:lnSpc>
                <a:spcPts val="2962"/>
              </a:lnSpc>
              <a:tabLst>
                <a:tab algn="l" pos="0"/>
                <a:tab algn="l" pos="101520"/>
                <a:tab algn="l" pos="549360"/>
                <a:tab algn="l" pos="998640"/>
                <a:tab algn="l" pos="1447920"/>
                <a:tab algn="l" pos="1897200"/>
                <a:tab algn="l" pos="2346480"/>
                <a:tab algn="l" pos="2795760"/>
                <a:tab algn="l" pos="3244680"/>
                <a:tab algn="l" pos="3693960"/>
                <a:tab algn="l" pos="4143240"/>
                <a:tab algn="l" pos="4592520"/>
                <a:tab algn="l" pos="5041800"/>
                <a:tab algn="l" pos="5491080"/>
                <a:tab algn="l" pos="5940360"/>
                <a:tab algn="l" pos="6389640"/>
                <a:tab algn="l" pos="6838920"/>
                <a:tab algn="l" pos="7288200"/>
                <a:tab algn="l" pos="7737480"/>
                <a:tab algn="l" pos="8186760"/>
                <a:tab algn="l" pos="8636040"/>
                <a:tab algn="l" pos="9085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Пирамида алкогольного потреблен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348000" y="981000"/>
            <a:ext cx="2808360" cy="360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коголизм (болезнь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11640" y="1736640"/>
            <a:ext cx="3348000" cy="711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3333"/>
                </a:solidFill>
                <a:latin typeface="Calibri"/>
              </a:rPr>
              <a:t>Злоупотребление (потребление с высоким риском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751280" y="2671920"/>
            <a:ext cx="1944720" cy="639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ребление с низким риском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400720" y="3789360"/>
            <a:ext cx="2592360" cy="81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дкое потребление или полное отсутствие потребления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24000" y="5300640"/>
            <a:ext cx="8496000" cy="1313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ая часть социальных, экономических и личных проблем являются результатом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е алкоголизма, а злоупотребления алкоголе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До тех пор пока мы не признаем этот факт, вряд ли удастся добиться значительного прогресса на пути к решению алкогольной проблем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0" y="71280"/>
            <a:ext cx="8928000" cy="90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Что сделано для реализации этого направления профилактической работы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27160" y="1089000"/>
            <a:ext cx="871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 2013 года в рамках проведения диспансеризации проводится выявление лиц, с риском пагубного потребления алкоголя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219640" y="4076640"/>
            <a:ext cx="346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амках  диспансеризации внедряется  профилактическое консультирование для лиц имеющих риск злоупотребления алкоголе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1989000"/>
          <a:ext cx="8072640" cy="1013040"/>
        </p:xfrm>
        <a:graphic>
          <a:graphicData uri="http://schemas.openxmlformats.org/drawingml/2006/table">
            <a:tbl>
              <a:tblPr/>
              <a:tblGrid>
                <a:gridCol w="4643640"/>
                <a:gridCol w="857160"/>
                <a:gridCol w="857160"/>
                <a:gridCol w="857160"/>
                <a:gridCol w="857520"/>
              </a:tblGrid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лено лиц, с риском злоупотребления (тыс. чел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прошли диспансеризацию (тыс. чел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0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4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2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. вес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112" name="Диаграмма 9" descr=""/>
          <p:cNvPicPr/>
          <p:nvPr/>
        </p:nvPicPr>
        <p:blipFill>
          <a:blip r:embed="rId1"/>
          <a:stretch/>
        </p:blipFill>
        <p:spPr>
          <a:xfrm>
            <a:off x="390600" y="3432240"/>
            <a:ext cx="45781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216000" y="1530360"/>
            <a:ext cx="8497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3333"/>
                </a:solidFill>
                <a:uFillTx/>
                <a:latin typeface="Calibri"/>
              </a:rPr>
              <a:t>Всего   КМП/ОМП  открыты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33"/>
                </a:solidFill>
                <a:latin typeface="Calibri"/>
              </a:rPr>
              <a:t>в  94% АПУ с численностью более 20 тыс. чел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33"/>
                </a:solidFill>
                <a:latin typeface="Calibri"/>
              </a:rPr>
              <a:t>в 73% АПУ с численностью менее 20 тыс. че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0" y="0"/>
            <a:ext cx="8928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Что сделано для реализации этого направления профилактической работы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52360" y="932040"/>
            <a:ext cx="7908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поликлиниках открыты кабинеты (отделения) медицинской профилактик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44360" y="4203720"/>
            <a:ext cx="8640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ГНИЦПМ разработана программа дополнительного образования и пакет методических материалов для специалистов первичного звена и начата подготовка кадров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152360" y="4789440"/>
            <a:ext cx="395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3333"/>
                </a:solidFill>
                <a:uFillTx/>
                <a:latin typeface="Calibri"/>
              </a:rPr>
              <a:t>Обучено  - 56 челове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58920" y="121608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каз Минздрава России от 30.09.2015 года №683н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44360" y="2525760"/>
            <a:ext cx="8353440" cy="6426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Изменен «Порядок оказания медицинской помощи по профилю «Психиатрия-наркология» Приказ Минздрава России от 30.12.2015 N 1024н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44360" y="5148360"/>
            <a:ext cx="86407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ГНИЦПМ запланировано многоцентровое исследование </a:t>
            </a:r>
            <a:r>
              <a:rPr b="0" lang="ru-RU" sz="1800" spc="-1" strike="noStrike">
                <a:solidFill>
                  <a:srgbClr val="ff3333"/>
                </a:solidFill>
                <a:latin typeface="Calibri"/>
              </a:rPr>
              <a:t>(в 5 регионах РФ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 разработке и апробации модели раннего выявления лиц, употребляющих алкоголь с вредными последствиями и оказание им помощи в первичном звене здравоохранения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44360" y="3129120"/>
            <a:ext cx="9001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  <a:ea typeface="Arial Unicode MS"/>
              </a:rPr>
              <a:t>10. ... </a:t>
            </a:r>
            <a:r>
              <a:rPr b="1" i="1" lang="ru-RU" sz="1500" spc="-1" strike="noStrike">
                <a:solidFill>
                  <a:srgbClr val="ff3333"/>
                </a:solidFill>
                <a:latin typeface="Calibri"/>
                <a:ea typeface="Arial Unicode MS"/>
              </a:rPr>
              <a:t>в случае выявления факторов риска развития наркологических расстройств врачом пациент направляется в кабинет (отделение) медицинской профилактики медицинской организации,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  <a:ea typeface="Arial Unicode MS"/>
              </a:rPr>
              <a:t> оказывающей первичную медико-санитарную помощь, центр здоровья для индивидуального углубленного профилактического консультирования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82440"/>
            <a:ext cx="82281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Что предстоит сделать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42920" y="635040"/>
            <a:ext cx="8715240" cy="60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на базе ГНИЦПМ Центр национального мониторинга з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треблением алкоголя и связанного с ним вреда, на основе показателей и процедуры сбора данных, совместимых с глобальными и региональными информационными системами ВОЗ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Создать  в сети Интернет информационный ресурс для населения и специалистов, обеспечивающий возможность интерактивной оценки уровня индивидуального и группового потребления алкоголя, консультирования по проблеме употребления алкоголя с вредными последствиям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Разработать информационно-просветительные материалы для разных групп населения по  снижению вреда для здоровья, обусловленного  потреблением алкогол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Привлечь работодателей и профсоюзы к организации программ  профилактики злоупотребления алкоголем и наркотиками на предприятиях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60360" y="1584360"/>
            <a:ext cx="8567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ценка ситуаци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360360" y="71280"/>
            <a:ext cx="82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Вклад алкоголя в смертность от некоторых </a:t>
            </a:r>
            <a:br>
              <a:rPr sz="2800"/>
            </a:b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причин смер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9280" y="2016000"/>
            <a:ext cx="4464000" cy="414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2484360" y="6093000"/>
            <a:ext cx="2390760" cy="314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539640" y="6453360"/>
            <a:ext cx="81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А. Немцов. Вклад алкоголя в смертность мужчин и женщин http://demoscope.ru/weekly/2013/0567/tema05.ph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443640" y="1800360"/>
            <a:ext cx="21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клад алкоголя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rcRect l="1276" t="47460" r="83" b="4637"/>
          <a:stretch/>
        </p:blipFill>
        <p:spPr>
          <a:xfrm>
            <a:off x="4535640" y="2165400"/>
            <a:ext cx="4282920" cy="4027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728640" y="1224000"/>
            <a:ext cx="7840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ад алкоголя в общую смертность мужчин -23,9%, женщин — 15,0%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179280" y="27468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algn="ctr">
              <a:lnSpc>
                <a:spcPts val="2962"/>
              </a:lnSpc>
              <a:tabLst>
                <a:tab algn="l" pos="0"/>
                <a:tab algn="l" pos="101520"/>
                <a:tab algn="l" pos="549360"/>
                <a:tab algn="l" pos="998640"/>
                <a:tab algn="l" pos="1447920"/>
                <a:tab algn="l" pos="1897200"/>
                <a:tab algn="l" pos="2346480"/>
                <a:tab algn="l" pos="2795760"/>
                <a:tab algn="l" pos="3244680"/>
                <a:tab algn="l" pos="3693960"/>
                <a:tab algn="l" pos="4143240"/>
                <a:tab algn="l" pos="4592520"/>
                <a:tab algn="l" pos="5041800"/>
                <a:tab algn="l" pos="5491080"/>
                <a:tab algn="l" pos="5940360"/>
                <a:tab algn="l" pos="6389640"/>
                <a:tab algn="l" pos="6838920"/>
                <a:tab algn="l" pos="7288200"/>
                <a:tab algn="l" pos="7737480"/>
                <a:tab algn="l" pos="8186760"/>
                <a:tab algn="l" pos="8636040"/>
                <a:tab algn="l" pos="9085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Динамика показателей смертности от заболеваний, связанных с употреблением алкоголя в РФ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01520" algn="ctr">
              <a:lnSpc>
                <a:spcPts val="2962"/>
              </a:lnSpc>
              <a:tabLst>
                <a:tab algn="l" pos="0"/>
                <a:tab algn="l" pos="101520"/>
                <a:tab algn="l" pos="549360"/>
                <a:tab algn="l" pos="998640"/>
                <a:tab algn="l" pos="1447920"/>
                <a:tab algn="l" pos="1897200"/>
                <a:tab algn="l" pos="2346480"/>
                <a:tab algn="l" pos="2795760"/>
                <a:tab algn="l" pos="3244680"/>
                <a:tab algn="l" pos="3693960"/>
                <a:tab algn="l" pos="4143240"/>
                <a:tab algn="l" pos="4592520"/>
                <a:tab algn="l" pos="5041800"/>
                <a:tab algn="l" pos="5491080"/>
                <a:tab algn="l" pos="5940360"/>
                <a:tab algn="l" pos="6389640"/>
                <a:tab algn="l" pos="6838920"/>
                <a:tab algn="l" pos="7288200"/>
                <a:tab algn="l" pos="7737480"/>
                <a:tab algn="l" pos="8186760"/>
                <a:tab algn="l" pos="8636040"/>
                <a:tab algn="l" pos="9085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(на 100 тыс. населения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912000" cy="40478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395280" y="6093000"/>
            <a:ext cx="84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ежегодник России – 2015 (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gks.ru/bgd/regl/B15_16/IssWWW.exe/Stg/6.5.xl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179280" y="115920"/>
            <a:ext cx="871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algn="ctr">
              <a:lnSpc>
                <a:spcPts val="2962"/>
              </a:lnSpc>
              <a:tabLst>
                <a:tab algn="l" pos="0"/>
                <a:tab algn="l" pos="101520"/>
                <a:tab algn="l" pos="549360"/>
                <a:tab algn="l" pos="998640"/>
                <a:tab algn="l" pos="1447920"/>
                <a:tab algn="l" pos="1897200"/>
                <a:tab algn="l" pos="2346480"/>
                <a:tab algn="l" pos="2795760"/>
                <a:tab algn="l" pos="3244680"/>
                <a:tab algn="l" pos="3693960"/>
                <a:tab algn="l" pos="4143240"/>
                <a:tab algn="l" pos="4592520"/>
                <a:tab algn="l" pos="5041800"/>
                <a:tab algn="l" pos="5491080"/>
                <a:tab algn="l" pos="5940360"/>
                <a:tab algn="l" pos="6389640"/>
                <a:tab algn="l" pos="6838920"/>
                <a:tab algn="l" pos="7288200"/>
                <a:tab algn="l" pos="7737480"/>
                <a:tab algn="l" pos="8186760"/>
                <a:tab algn="l" pos="8636040"/>
                <a:tab algn="l" pos="9085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Корреляция между динамикой продаж водки и некоторыми показателями здоровья в РФ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38600" y="1131840"/>
            <a:ext cx="3969000" cy="2441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17520" y="1011240"/>
            <a:ext cx="4333680" cy="263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390600" y="3794040"/>
            <a:ext cx="4041720" cy="224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4780080" y="3794040"/>
            <a:ext cx="4082760" cy="2298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108000" y="6308640"/>
            <a:ext cx="87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аза данных ЕМИИС 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ttps://www.fedstat.ru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472000" y="1800360"/>
            <a:ext cx="93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</a:rPr>
              <a:t>r=0,82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72000" y="1800360"/>
            <a:ext cx="93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</a:rPr>
              <a:t>r=0,82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022480" y="1755720"/>
            <a:ext cx="93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</a:rPr>
              <a:t>r=0,98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1224000" y="4819680"/>
            <a:ext cx="93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</a:rPr>
              <a:t>r=0,848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668920" y="4676760"/>
            <a:ext cx="93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</a:rPr>
              <a:t>r=0,92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395280" y="4428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algn="ctr">
              <a:lnSpc>
                <a:spcPts val="2974"/>
              </a:lnSpc>
              <a:tabLst>
                <a:tab algn="l" pos="0"/>
                <a:tab algn="l" pos="101520"/>
                <a:tab algn="l" pos="549360"/>
                <a:tab algn="l" pos="998640"/>
                <a:tab algn="l" pos="1447920"/>
                <a:tab algn="l" pos="1897200"/>
                <a:tab algn="l" pos="2346480"/>
                <a:tab algn="l" pos="2795760"/>
                <a:tab algn="l" pos="3244680"/>
                <a:tab algn="l" pos="3693960"/>
                <a:tab algn="l" pos="4143240"/>
                <a:tab algn="l" pos="4592520"/>
                <a:tab algn="l" pos="5041800"/>
                <a:tab algn="l" pos="5491080"/>
                <a:tab algn="l" pos="5940360"/>
                <a:tab algn="l" pos="6389640"/>
                <a:tab algn="l" pos="6838920"/>
                <a:tab algn="l" pos="7288200"/>
                <a:tab algn="l" pos="7737480"/>
                <a:tab algn="l" pos="8186760"/>
                <a:tab algn="l" pos="8636040"/>
                <a:tab algn="l" pos="9085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Интегральная оценка алкогольной ситуации на региональном уровн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79280" y="1064160"/>
            <a:ext cx="871380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нове базы данных Единой межведомственной информационно – статистической системы (ЕМИСС) был сформирован исходный набор из данных по Российской Федерации по 7 показателям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ажа алкогольных напитков в абсолютном алкоголе на душу населения (л) за период с 1995 по 2013 гг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родажа водки в на душу населения (л) за период с 1998 по 2013 гг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разница между ожидаемой продолжительностью жизни женщин и мужчин (лет) за период с 1990 по 2013 гг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смертность от внешних причин (на 100 тыс. населения) за период с 1990 по 2013 гг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смертность от случайных отравлений алкоголем (на 100 тыс. населения) за период с 1990 по 2013 гг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заболеваемость с впервые в жизни установленным диагнозом алкоголизма и алкогольного психоза (на 100 тыс. населения) за период с 2003 по 2013 гг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личество преступлений (из числа предварительно расследованных), совершенных в состоянии алкогольного опьян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единиц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ериод с 2008 по 2013 гг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84360" y="9334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Материал и метод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0" y="115920"/>
            <a:ext cx="9072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Распределение регионов по величине интегрального показателя алкогольной ситуации (ИПАС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630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179280" y="260280"/>
            <a:ext cx="8785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Смертность мужчин в 2014 году в трудоспособном возрасте от основных причин (на 100 тыс. населения) в регионах с разной величиной ИПАС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429080" y="26431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ая смертность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227640" y="4076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ертность от основных причин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Диаграмма 7" descr=""/>
          <p:cNvPicPr/>
          <p:nvPr/>
        </p:nvPicPr>
        <p:blipFill>
          <a:blip r:embed="rId1"/>
          <a:stretch/>
        </p:blipFill>
        <p:spPr>
          <a:xfrm>
            <a:off x="500040" y="3638520"/>
            <a:ext cx="457200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Диаграмма 8" descr=""/>
          <p:cNvPicPr/>
          <p:nvPr/>
        </p:nvPicPr>
        <p:blipFill>
          <a:blip r:embed="rId2"/>
          <a:stretch/>
        </p:blipFill>
        <p:spPr>
          <a:xfrm>
            <a:off x="212760" y="1566720"/>
            <a:ext cx="364644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356000" y="3357720"/>
            <a:ext cx="431964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ло погибших  в ДТП н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0 тыс. транспортных средств в регионах с разной величиной ИПАС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17520" y="4937040"/>
            <a:ext cx="3254400" cy="1671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4716360" y="4941720"/>
            <a:ext cx="3743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ло преступлений совершенных в состоянии алкогольного опьянения в регионах с разной величиной ИПАС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317520" y="2846520"/>
            <a:ext cx="3254400" cy="217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317520" y="1262160"/>
            <a:ext cx="3395520" cy="1670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4284720" y="1700280"/>
            <a:ext cx="338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ловый региональный продукт на душу населения (руб.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84360" y="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Некоторые социально-экономические показатели в регионах с разной величиной ИПАС в 2014 год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3T10:32:17Z</dcterms:created>
  <dc:creator>BGornyy</dc:creator>
  <dc:description/>
  <dc:language>en-US</dc:language>
  <cp:lastModifiedBy>user</cp:lastModifiedBy>
  <dcterms:modified xsi:type="dcterms:W3CDTF">2017-02-13T11:48:33Z</dcterms:modified>
  <cp:revision>52</cp:revision>
  <dc:subject/>
  <dc:title>Слайд 1</dc:title>
</cp:coreProperties>
</file>