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3446-0276-44B6-B1B8-FCA80C41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5C71-181F-4BF9-889C-21AFB96A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B291-AC18-473A-909D-3D2BB89C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BCD-C6CC-47B9-8F7A-033E8442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557F-E32F-419E-A555-FD548C58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D42B-209A-48C6-BFFA-5B08E9BA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07F1-AE8B-4F5A-A5A1-F074F5E4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FAD4-0D29-41D2-BB68-BA090D4E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DD61-7C1A-4B1E-8A04-B3F2751C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74B9-D3DE-4E8C-96E1-5EFFCCE9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E357-CAEB-4DF1-B671-1CE54B84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AB75-285A-4E8F-8335-99FC3184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FF54-90AA-41CA-9E54-AADD32B1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DFAC-088E-4E9B-8944-2CD7ABD6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88E8-B859-496D-8BF2-3C459C3B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30BC-906B-41BF-BBDA-78B08337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4097-13B3-40B0-B727-332B27D7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1F4-53DF-43CF-800A-88A5CD72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5B8F-2D2A-4C09-83CA-7411115B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8C4C-1902-442F-8B32-25D958CC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437-51DA-4116-80A9-2CE50E65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8719-E875-4D46-AC89-8439D5C6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D4A6-913B-4BE5-B0B8-8ACECACB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0D6-E7E7-4C84-BD39-B02D7AF8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D2BD-50AB-47A0-97CB-FB0CA78CA9C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80DA-5402-41F0-822F-1B20FAD15F6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2133720"/>
            <a:ext cx="725328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620280"/>
            <a:ext cx="9144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лекс мер по расширению охвата потребителей ПАВ психокоррекционной и медицинской помощь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900000" y="4005360"/>
            <a:ext cx="777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.В. Климен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НЦ нарколог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лиал «Федерального медицинского исследовательского центра психиатрии и наркологии  им. В.П. Сербского» Минздрава Росс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 февраля  2017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енная Ду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Латентность наркологической патологии 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от 1:5 (алкоголизм) 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до 1:50 (пагубное употребление алкоголя)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534680"/>
            <a:ext cx="2916360" cy="885960"/>
          </a:xfrm>
          <a:prstGeom prst="rect">
            <a:avLst/>
          </a:prstGeom>
          <a:solidFill>
            <a:srgbClr val="b8b8ff"/>
          </a:solidFill>
          <a:ln w="0">
            <a:noFill/>
          </a:ln>
        </p:spPr>
        <p:txBody>
          <a:bodyPr anchor="b">
            <a:normAutofit fontScale="21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«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Снижение зарегистрированной заболеваем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59280" y="1534680"/>
            <a:ext cx="6084720" cy="885960"/>
          </a:xfrm>
          <a:prstGeom prst="rect">
            <a:avLst/>
          </a:prstGeom>
          <a:solidFill>
            <a:srgbClr val="7070ff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Реальная ситуация: рост пьяных правонару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Объект 11" descr=""/>
          <p:cNvPicPr/>
          <p:nvPr/>
        </p:nvPicPr>
        <p:blipFill>
          <a:blip r:embed="rId1"/>
          <a:stretch/>
        </p:blipFill>
        <p:spPr>
          <a:xfrm>
            <a:off x="30240" y="2662200"/>
            <a:ext cx="2886120" cy="2024280"/>
          </a:xfrm>
          <a:prstGeom prst="rect">
            <a:avLst/>
          </a:prstGeom>
          <a:ln w="0">
            <a:noFill/>
          </a:ln>
        </p:spPr>
      </p:pic>
      <p:pic>
        <p:nvPicPr>
          <p:cNvPr id="116" name="Объект 12" descr=""/>
          <p:cNvPicPr/>
          <p:nvPr/>
        </p:nvPicPr>
        <p:blipFill>
          <a:blip r:embed="rId2"/>
          <a:stretch/>
        </p:blipFill>
        <p:spPr>
          <a:xfrm>
            <a:off x="-1440" y="4822920"/>
            <a:ext cx="2917800" cy="2025720"/>
          </a:xfrm>
          <a:prstGeom prst="rect">
            <a:avLst/>
          </a:prstGeom>
          <a:ln w="0">
            <a:noFill/>
          </a:ln>
        </p:spPr>
      </p:pic>
      <p:sp>
        <p:nvSpPr>
          <p:cNvPr id="117" name="Скругленный прямоугольник 13"/>
          <p:cNvSpPr/>
          <p:nvPr/>
        </p:nvSpPr>
        <p:spPr>
          <a:xfrm>
            <a:off x="392040" y="4307040"/>
            <a:ext cx="2262240" cy="3474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лкоголиз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Овал 15"/>
          <p:cNvSpPr/>
          <p:nvPr/>
        </p:nvSpPr>
        <p:spPr>
          <a:xfrm>
            <a:off x="696960" y="3573360"/>
            <a:ext cx="1652400" cy="360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-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2,4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Скругленный прямоугольник 16"/>
          <p:cNvSpPr/>
          <p:nvPr/>
        </p:nvSpPr>
        <p:spPr>
          <a:xfrm>
            <a:off x="344520" y="6165720"/>
            <a:ext cx="2427120" cy="56376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губное употребл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Овал 19"/>
          <p:cNvSpPr/>
          <p:nvPr/>
        </p:nvSpPr>
        <p:spPr>
          <a:xfrm>
            <a:off x="657360" y="5661000"/>
            <a:ext cx="1654200" cy="360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-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28,8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3"/>
          <a:stretch/>
        </p:blipFill>
        <p:spPr>
          <a:xfrm>
            <a:off x="3059280" y="2558880"/>
            <a:ext cx="3313080" cy="17481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9" descr="http://start33.ru/files/s/0/10/LMPKdfCsfm4uipiAi.jpg"/>
          <p:cNvPicPr/>
          <p:nvPr/>
        </p:nvPicPr>
        <p:blipFill>
          <a:blip r:embed="rId4"/>
          <a:stretch/>
        </p:blipFill>
        <p:spPr>
          <a:xfrm>
            <a:off x="3059280" y="4352760"/>
            <a:ext cx="3313080" cy="237672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17"/>
          <p:cNvSpPr/>
          <p:nvPr/>
        </p:nvSpPr>
        <p:spPr>
          <a:xfrm>
            <a:off x="6443640" y="2565360"/>
            <a:ext cx="2592360" cy="2376360"/>
          </a:xfrm>
          <a:prstGeom prst="rect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алкогольном опьянении   совершаю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ждое третье преступлени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ждое шестое правонарушение у подростк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75% убийст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ждое третье ДТП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Прямоугольник 14"/>
          <p:cNvSpPr/>
          <p:nvPr/>
        </p:nvSpPr>
        <p:spPr>
          <a:xfrm>
            <a:off x="6443640" y="5084640"/>
            <a:ext cx="2592360" cy="1644840"/>
          </a:xfrm>
          <a:prstGeom prst="rect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В общесоматической сети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60%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больных с алкогольной патологи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Факторы латентности алкогольной патологии и ее последств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108000" y="1413000"/>
            <a:ext cx="3743280" cy="2520720"/>
          </a:xfrm>
          <a:prstGeom prst="rect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кторы латентност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нозогноз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игматиз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граничение в прав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ращение 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государственны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линики и частн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рача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4716360" y="1413000"/>
            <a:ext cx="4176720" cy="2520720"/>
          </a:xfrm>
          <a:prstGeom prst="rect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граничение  лиц с алкогольными расстройствами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о факту болезни, а по факту обращения за медицинской помощью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государственные наркологические организ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оугольник 6"/>
          <p:cNvSpPr/>
          <p:nvPr/>
        </p:nvSpPr>
        <p:spPr>
          <a:xfrm>
            <a:off x="108000" y="4637160"/>
            <a:ext cx="4608360" cy="2104920"/>
          </a:xfrm>
          <a:prstGeom prst="rect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храняют права больные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которые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 обращаются за наркологической помощь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ращаются к частным врачам и в частные клини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Стрелка вправо 11"/>
          <p:cNvSpPr/>
          <p:nvPr/>
        </p:nvSpPr>
        <p:spPr>
          <a:xfrm>
            <a:off x="3876840" y="2322360"/>
            <a:ext cx="839520" cy="1177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Стрелка вниз 12"/>
          <p:cNvSpPr/>
          <p:nvPr/>
        </p:nvSpPr>
        <p:spPr>
          <a:xfrm>
            <a:off x="2133720" y="3978360"/>
            <a:ext cx="1336680" cy="64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Стрелка вправо 14"/>
          <p:cNvSpPr/>
          <p:nvPr/>
        </p:nvSpPr>
        <p:spPr>
          <a:xfrm>
            <a:off x="3889440" y="1371600"/>
            <a:ext cx="839880" cy="1179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Стрелка вниз 15"/>
          <p:cNvSpPr/>
          <p:nvPr/>
        </p:nvSpPr>
        <p:spPr>
          <a:xfrm>
            <a:off x="641520" y="3986280"/>
            <a:ext cx="1338120" cy="65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Скругленный прямоугольник 3"/>
          <p:cNvSpPr/>
          <p:nvPr/>
        </p:nvSpPr>
        <p:spPr>
          <a:xfrm>
            <a:off x="5591160" y="4437000"/>
            <a:ext cx="3301920" cy="230508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Снижение обращаемости за медицинской помощь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Накопление больных в социу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Стрелка вправо 4"/>
          <p:cNvSpPr/>
          <p:nvPr/>
        </p:nvSpPr>
        <p:spPr>
          <a:xfrm>
            <a:off x="4737240" y="5356080"/>
            <a:ext cx="853920" cy="109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Стрелка вниз 7"/>
          <p:cNvSpPr/>
          <p:nvPr/>
        </p:nvSpPr>
        <p:spPr>
          <a:xfrm>
            <a:off x="6516720" y="3933720"/>
            <a:ext cx="1217520" cy="488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истема раннего выявления потребителей ПАВ: профилактическая эффективность и экономическая целесообразность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Диаграмма 7" descr=""/>
          <p:cNvPicPr/>
          <p:nvPr/>
        </p:nvPicPr>
        <p:blipFill>
          <a:blip r:embed="rId1"/>
          <a:stretch/>
        </p:blipFill>
        <p:spPr>
          <a:xfrm>
            <a:off x="-36360" y="1433520"/>
            <a:ext cx="9245520" cy="5475240"/>
          </a:xfrm>
          <a:prstGeom prst="rect">
            <a:avLst/>
          </a:prstGeom>
          <a:ln w="0">
            <a:noFill/>
          </a:ln>
        </p:spPr>
      </p:pic>
      <p:sp>
        <p:nvSpPr>
          <p:cNvPr id="138" name="Выноска 1 8"/>
          <p:cNvSpPr/>
          <p:nvPr/>
        </p:nvSpPr>
        <p:spPr>
          <a:xfrm>
            <a:off x="108000" y="1557360"/>
            <a:ext cx="1871640" cy="1295280"/>
          </a:xfrm>
          <a:prstGeom prst="borderCallout1">
            <a:avLst>
              <a:gd name="adj1" fmla="val 18750"/>
              <a:gd name="adj2" fmla="val -8333"/>
              <a:gd name="adj3" fmla="val 36037"/>
              <a:gd name="adj4" fmla="val 240750"/>
            </a:avLst>
          </a:prstGeom>
          <a:solidFill>
            <a:srgbClr val="66cc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удебные экспертизы (1%):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язательное лечение алкоголизм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6407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ru-RU" sz="5400" spc="-1" strike="noStrike">
                <a:solidFill>
                  <a:srgbClr val="eaeaea"/>
                </a:solidFill>
                <a:latin typeface="Tahoma"/>
              </a:rPr>
              <a:t>США и страны ЕС: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больных  находятся в наркологических клиниках по решению су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53208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Расширение охвата больных медицинской помощью за счет расширения видов недобровольного лечения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125000"/>
            <a:ext cx="91440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несение изменен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УК РФ в отношении лиц с пагубным потреблением алкоголя – обязательные профилактические  программы для осужденных (ст. 18 УИК) и условно осужденных (ст. 73 УК)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КоАП  – обязательные профилактические программы для лиц с пагубным потребление алкоголя и обязательное лечение для больных алкоголизмом (ст. 4.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Трудовой кодекс РФ – по результатам медицинского осмотра обязательное медицинское освидетельств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Семейный кодекс РФ  для  родителей с риском лишения родительских прав обязательные профилактические программы для лиц с пагубным употреблением ПАВ и обязательное лечение для лиц с зависимостью от ПА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Расширение охвата медицинской помощью за счет формирования системы наркологического аудита в первичном звене здравоохранения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8920" y="1773360"/>
            <a:ext cx="8713800" cy="4751280"/>
          </a:xfrm>
          <a:prstGeom prst="rect">
            <a:avLst/>
          </a:prstGeom>
          <a:solidFill>
            <a:srgbClr val="adad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учение врачей первичного звена краткосрочным диагностическим техникам и вмешательств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работка технологий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еративного наркологического аудита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ля врачей первичного зве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еспечение центров Здоровья и отделений медицинской профилактики психологами и психотерапевтами для психокоррекционной и психотерапевтической помощи с лицами с наркологическими расстройствами и созависимы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Организация первичной профилактики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ация при наркологической службе обучающих мероприятий по профилактике для специалистов первичного звена и лиц, работающих с детьми и в молодежной сре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ключение вопросов профилактики в программы аттестации (аккредитации) специалистов с высшим и средним медицинским образование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закон об образовании: курс нарколог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одательно закрепить допуск к осуществлению профилактической работы специалистов только после их обучения, так как специфика заболевания такова, что неправильно проведенная профилактическая работа, может вызвать неподдельный интерес к первой пробе алкоголя, наркотика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Фиолетовый цветок"/>
          <p:cNvPicPr/>
          <p:nvPr/>
        </p:nvPicPr>
        <p:blipFill>
          <a:blip r:embed="rId1"/>
          <a:stretch/>
        </p:blipFill>
        <p:spPr>
          <a:xfrm>
            <a:off x="11160" y="0"/>
            <a:ext cx="2940120" cy="220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07:45:36Z</dcterms:created>
  <dc:creator>Василий</dc:creator>
  <dc:description/>
  <dc:language>en-US</dc:language>
  <cp:lastModifiedBy>Попова Марина Дмитриевна</cp:lastModifiedBy>
  <dcterms:modified xsi:type="dcterms:W3CDTF">2017-02-13T09:02:47Z</dcterms:modified>
  <cp:revision>492</cp:revision>
  <dc:subject/>
  <dc:title>Слайд 1</dc:title>
</cp:coreProperties>
</file>